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A9E4-8F0E-4723-9D39-93453478D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E5B4-1AD1-40E2-B020-F77F1CFA8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52ED-F711-4BD4-A1D7-512E7670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0402-63B1-496C-A654-B84C7D9A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4160-637B-461B-BE64-DB696FB25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DBB9-F2E5-430A-B2AC-6C6D8C866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EA84-AB94-4150-A7CD-C0750C397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7C60-B5F7-4E68-B0D4-086709A52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5E1D-8643-4B40-A5E9-AA370A588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0AC-816F-4C1C-9C9A-ABB7384C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634-7CC1-4A40-AE30-3AB34393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43E-6DC7-47E1-89A4-BD6B7B84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B8B-0E5B-45E2-8432-B0459A0F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95AB-0D85-4D3F-9424-91E4115C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F401-DE6F-402A-B9FB-E4712D8A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9493-95C6-48A6-9E5E-A8627EF2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6C91-2A2F-4776-BD58-32AA6C63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6420-0371-4C70-8A21-C4041814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3308-F0AD-43DA-9511-1E0CF9CD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3B16-D98B-45D2-82DF-0DB94B60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F2C-334C-409D-88CF-02B041F4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1123-0EB0-4EDC-8639-24690C02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DD20-AB72-4153-98A1-C1251F67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0B3E-CC54-4A70-8EEE-012E4CEE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18E4-BD9F-405B-B31E-FC783AF7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8ECD-D619-4988-8BB3-8A8ED365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E84-0B6E-4BDB-A8D8-2BD2C0F3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9B7-C20D-464A-9DD2-F03A1F3A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135-DAAF-4AA8-91E4-A00E5108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E24-FF29-4EB3-9703-F12D8470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30D-ADCD-4079-A111-7188A0CD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5AC-22DD-411F-BFAD-1D6655DD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6F7-5BDC-49C8-A814-5BA69B03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8F82-CBB9-4170-9F94-F8A08F019A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40404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1A91-2FA7-4095-8EDC-F98EB0F153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rform a stall test to determine whether a power complaint is related to the engine or transmi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ll tests create high torque and high he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o not stall test in Low or Reverse Range – use low torque ranges on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 aware of rapid transmission fluid temperature increase when stall tes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4268880" y="1517760"/>
            <a:ext cx="4917960" cy="4425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swfButton.png"/>
          <p:cNvPicPr/>
          <p:nvPr/>
        </p:nvPicPr>
        <p:blipFill>
          <a:blip r:embed="rId2"/>
          <a:stretch/>
        </p:blipFill>
        <p:spPr>
          <a:xfrm>
            <a:off x="190980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swfButton.png"/>
          <p:cNvPicPr/>
          <p:nvPr/>
        </p:nvPicPr>
        <p:blipFill>
          <a:blip r:embed="rId3"/>
          <a:stretch/>
        </p:blipFill>
        <p:spPr>
          <a:xfrm>
            <a:off x="311796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swfButton.png"/>
          <p:cNvPicPr/>
          <p:nvPr/>
        </p:nvPicPr>
        <p:blipFill>
          <a:blip r:embed="rId4"/>
          <a:stretch/>
        </p:blipFill>
        <p:spPr>
          <a:xfrm>
            <a:off x="571680" y="617364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swfButton.png"/>
          <p:cNvPicPr/>
          <p:nvPr/>
        </p:nvPicPr>
        <p:blipFill>
          <a:blip r:embed="rId5"/>
          <a:stretch/>
        </p:blipFill>
        <p:spPr>
          <a:xfrm>
            <a:off x="436392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Stall Test Prepara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tall or use a known-good tachome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tall a temperature gauge in the transmission Converter-Out circui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rify the transmission fluid level is correct at normal operating temperature (160-200 degrees Fahrenheit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rify that the engine throttle, air induction and smoke controls systems (if equipped) are operating properl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ock the vehicle wheels and clear all personnel from the front, sides and rear of the vehic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urn off all vehicle accessories including the P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364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4541760" y="1616040"/>
            <a:ext cx="4656240" cy="3867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4454640" y="1539720"/>
            <a:ext cx="2065320" cy="1189080"/>
          </a:xfrm>
          <a:prstGeom prst="rect">
            <a:avLst/>
          </a:prstGeom>
          <a:solidFill>
            <a:srgbClr val="9e0000"/>
          </a:solidFill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ison DOC™ can be used to monitor engine speed, transmission fluid temperature and to command a specific transmission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Static Stall Test Procedures (Vehicle Stopped)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359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With the engine running, apply the parking brake and service brake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Shift the transmission into a forward range other than Low (if equipped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Slowly depress the accelerator while holding the service brake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cord engine rpm when the tachometer stabilize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Slowly release the accelerator, select Neutral and cool the transmission by running the engine between 1200 and 1500 rpm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364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swfButton.png"/>
          <p:cNvPicPr/>
          <p:nvPr/>
        </p:nvPicPr>
        <p:blipFill>
          <a:blip r:embed="rId2"/>
          <a:stretch/>
        </p:blipFill>
        <p:spPr>
          <a:xfrm>
            <a:off x="33148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swfButton.png"/>
          <p:cNvPicPr/>
          <p:nvPr/>
        </p:nvPicPr>
        <p:blipFill>
          <a:blip r:embed="rId3"/>
          <a:stretch/>
        </p:blipFill>
        <p:spPr>
          <a:xfrm>
            <a:off x="1932120" y="6172200"/>
            <a:ext cx="1333440" cy="28584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"/>
          <p:cNvGrpSpPr/>
          <p:nvPr/>
        </p:nvGrpSpPr>
        <p:grpSpPr>
          <a:xfrm>
            <a:off x="4048200" y="1954080"/>
            <a:ext cx="5068800" cy="4066200"/>
            <a:chOff x="4048200" y="1954080"/>
            <a:chExt cx="5068800" cy="4066200"/>
          </a:xfrm>
        </p:grpSpPr>
        <p:pic>
          <p:nvPicPr>
            <p:cNvPr id="112" name="Picture 11" descr=""/>
            <p:cNvPicPr/>
            <p:nvPr/>
          </p:nvPicPr>
          <p:blipFill>
            <a:blip r:embed="rId4"/>
            <a:stretch/>
          </p:blipFill>
          <p:spPr>
            <a:xfrm>
              <a:off x="4048200" y="1954080"/>
              <a:ext cx="5068800" cy="34156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13" name="TextBox 9"/>
            <p:cNvSpPr/>
            <p:nvPr/>
          </p:nvSpPr>
          <p:spPr>
            <a:xfrm>
              <a:off x="7392600" y="5561280"/>
              <a:ext cx="80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Clu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"/>
            <p:cNvSpPr/>
            <p:nvPr/>
          </p:nvSpPr>
          <p:spPr>
            <a:xfrm>
              <a:off x="7036560" y="3348360"/>
              <a:ext cx="1867320" cy="583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Straight Arrow Connector 4"/>
            <p:cNvCxnSpPr>
              <a:stCxn id="113" idx="0"/>
            </p:cNvCxnSpPr>
            <p:nvPr/>
          </p:nvCxnSpPr>
          <p:spPr>
            <a:xfrm flipH="1" flipV="1">
              <a:off x="7794720" y="3932280"/>
              <a:ext cx="1080" cy="16293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Stall Testing Smoke Controlled Vehicle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moke controls and throttle delay mechanisms inhibit engine acceleration and may require stall testing with the vehicle mov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ocate an isolated area away from people and traff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lect 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or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range to limit road spe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rive the vehicle at full throttle or maximum governed rp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lowly apply the service brakes while maintaining full thrott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2"/>
          <a:stretch/>
        </p:blipFill>
        <p:spPr>
          <a:xfrm>
            <a:off x="4505400" y="1757520"/>
            <a:ext cx="4525920" cy="3162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Stall Testing Smoke Controlled Vehicles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  <a:ea typeface="Arial"/>
              </a:rPr>
              <a:t>(cont’d)</a:t>
            </a:r>
            <a:endParaRPr b="0" lang="en-US" sz="18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moke controls and throttle delay mechanisms inhibit engine acceleration and may require stall testing with the vehicle mov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ord the engine rpm when vehicle comes to a complete sto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lease the throttle and allow the engine to return to id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lect Neutral and run the engine between 1200 and 1500 rpm to cool the transmi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Allison DOC™ to command and hold a specific r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1"/>
          <a:stretch/>
        </p:blipFill>
        <p:spPr>
          <a:xfrm>
            <a:off x="4505400" y="1757520"/>
            <a:ext cx="4525920" cy="3162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nalyzing Stall Test Result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384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ference the engine manufacturer’s stall test specification and compare to test resul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6338520" y="604188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6665760" y="5605560"/>
            <a:ext cx="20880" cy="43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"/>
          <p:cNvPicPr/>
          <p:nvPr/>
        </p:nvPicPr>
        <p:blipFill>
          <a:blip r:embed="rId2"/>
          <a:stretch/>
        </p:blipFill>
        <p:spPr>
          <a:xfrm>
            <a:off x="5361120" y="4343400"/>
            <a:ext cx="2428920" cy="159084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13"/>
          <p:cNvSpPr/>
          <p:nvPr/>
        </p:nvSpPr>
        <p:spPr>
          <a:xfrm flipH="1">
            <a:off x="5878440" y="5605560"/>
            <a:ext cx="457200" cy="490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5"/>
          <p:cNvSpPr/>
          <p:nvPr/>
        </p:nvSpPr>
        <p:spPr>
          <a:xfrm>
            <a:off x="7250040" y="5475240"/>
            <a:ext cx="434880" cy="459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5213520" y="60213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7646040" y="58896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4416480" y="1882800"/>
            <a:ext cx="21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tremely Low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6680160" y="18828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6680520" y="2068560"/>
            <a:ext cx="164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eewheeling S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6680160" y="24271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6681600" y="299412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pping Clu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6682320" y="3189240"/>
            <a:ext cx="225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Converter-Out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6677640" y="353844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ck S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6681960" y="371160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oling System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6680160" y="27972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29"/>
          <p:cNvSpPr/>
          <p:nvPr/>
        </p:nvSpPr>
        <p:spPr>
          <a:xfrm>
            <a:off x="6599160" y="1687680"/>
            <a:ext cx="0" cy="230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4095"/>
          <p:cNvSpPr/>
          <p:nvPr/>
        </p:nvSpPr>
        <p:spPr>
          <a:xfrm>
            <a:off x="4430880" y="2400480"/>
            <a:ext cx="4520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33"/>
          <p:cNvSpPr/>
          <p:nvPr/>
        </p:nvSpPr>
        <p:spPr>
          <a:xfrm>
            <a:off x="4435560" y="279072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4"/>
          <p:cNvSpPr/>
          <p:nvPr/>
        </p:nvSpPr>
        <p:spPr>
          <a:xfrm>
            <a:off x="4435560" y="353232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35"/>
          <p:cNvSpPr/>
          <p:nvPr/>
        </p:nvSpPr>
        <p:spPr>
          <a:xfrm>
            <a:off x="4435560" y="184464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6"/>
          <p:cNvSpPr/>
          <p:nvPr/>
        </p:nvSpPr>
        <p:spPr>
          <a:xfrm>
            <a:off x="4416480" y="24271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7"/>
          <p:cNvSpPr/>
          <p:nvPr/>
        </p:nvSpPr>
        <p:spPr>
          <a:xfrm>
            <a:off x="4416120" y="279720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igh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8"/>
          <p:cNvSpPr/>
          <p:nvPr/>
        </p:nvSpPr>
        <p:spPr>
          <a:xfrm>
            <a:off x="4419000" y="3538440"/>
            <a:ext cx="168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mproper Cool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0"/>
          <p:cNvSpPr/>
          <p:nvPr/>
        </p:nvSpPr>
        <p:spPr>
          <a:xfrm>
            <a:off x="4412160" y="153504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6679440" y="15350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nalyzing Stall Test Results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  <a:ea typeface="Arial"/>
              </a:rPr>
              <a:t>(cont’d)</a:t>
            </a:r>
            <a:endParaRPr b="0" lang="en-US" sz="18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sults often identify stator probl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reewheeling stator symptom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tremely low stall sp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 power at low vehicle speed but normal power at high vehicle sp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levated transmission fluid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ansmission will not upshift under full thro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6338520" y="604188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9"/>
          <p:cNvSpPr/>
          <p:nvPr/>
        </p:nvSpPr>
        <p:spPr>
          <a:xfrm>
            <a:off x="6665760" y="5605560"/>
            <a:ext cx="20880" cy="43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"/>
          <p:cNvPicPr/>
          <p:nvPr/>
        </p:nvPicPr>
        <p:blipFill>
          <a:blip r:embed="rId1"/>
          <a:stretch/>
        </p:blipFill>
        <p:spPr>
          <a:xfrm>
            <a:off x="5361120" y="4343400"/>
            <a:ext cx="2428920" cy="1590840"/>
          </a:xfrm>
          <a:prstGeom prst="rect">
            <a:avLst/>
          </a:prstGeom>
          <a:ln w="0">
            <a:noFill/>
          </a:ln>
        </p:spPr>
      </p:pic>
      <p:sp>
        <p:nvSpPr>
          <p:cNvPr id="161" name="Straight Connector 13"/>
          <p:cNvSpPr/>
          <p:nvPr/>
        </p:nvSpPr>
        <p:spPr>
          <a:xfrm flipH="1">
            <a:off x="5878440" y="5605560"/>
            <a:ext cx="457200" cy="490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5"/>
          <p:cNvSpPr/>
          <p:nvPr/>
        </p:nvSpPr>
        <p:spPr>
          <a:xfrm>
            <a:off x="7250040" y="5475240"/>
            <a:ext cx="434880" cy="459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5213520" y="60213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7646040" y="58896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4416480" y="1882800"/>
            <a:ext cx="21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tremely Low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6680160" y="18828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6680520" y="2068560"/>
            <a:ext cx="164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eewheeling S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3"/>
          <p:cNvSpPr/>
          <p:nvPr/>
        </p:nvSpPr>
        <p:spPr>
          <a:xfrm>
            <a:off x="6680160" y="24271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4"/>
          <p:cNvSpPr/>
          <p:nvPr/>
        </p:nvSpPr>
        <p:spPr>
          <a:xfrm>
            <a:off x="6681600" y="299412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pping Clu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5"/>
          <p:cNvSpPr/>
          <p:nvPr/>
        </p:nvSpPr>
        <p:spPr>
          <a:xfrm>
            <a:off x="6682320" y="3189240"/>
            <a:ext cx="225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Converter-Out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6"/>
          <p:cNvSpPr/>
          <p:nvPr/>
        </p:nvSpPr>
        <p:spPr>
          <a:xfrm>
            <a:off x="6677640" y="353844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ck S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7"/>
          <p:cNvSpPr/>
          <p:nvPr/>
        </p:nvSpPr>
        <p:spPr>
          <a:xfrm>
            <a:off x="6681960" y="371160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oling System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8"/>
          <p:cNvSpPr/>
          <p:nvPr/>
        </p:nvSpPr>
        <p:spPr>
          <a:xfrm>
            <a:off x="6680160" y="27972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9"/>
          <p:cNvSpPr/>
          <p:nvPr/>
        </p:nvSpPr>
        <p:spPr>
          <a:xfrm>
            <a:off x="6599160" y="1687680"/>
            <a:ext cx="0" cy="230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4095"/>
          <p:cNvSpPr/>
          <p:nvPr/>
        </p:nvSpPr>
        <p:spPr>
          <a:xfrm>
            <a:off x="4430880" y="2400480"/>
            <a:ext cx="4520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33"/>
          <p:cNvSpPr/>
          <p:nvPr/>
        </p:nvSpPr>
        <p:spPr>
          <a:xfrm>
            <a:off x="4435560" y="279072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34"/>
          <p:cNvSpPr/>
          <p:nvPr/>
        </p:nvSpPr>
        <p:spPr>
          <a:xfrm>
            <a:off x="4435560" y="353232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5"/>
          <p:cNvSpPr/>
          <p:nvPr/>
        </p:nvSpPr>
        <p:spPr>
          <a:xfrm>
            <a:off x="4435560" y="184464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6"/>
          <p:cNvSpPr/>
          <p:nvPr/>
        </p:nvSpPr>
        <p:spPr>
          <a:xfrm>
            <a:off x="4416480" y="24271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7"/>
          <p:cNvSpPr/>
          <p:nvPr/>
        </p:nvSpPr>
        <p:spPr>
          <a:xfrm>
            <a:off x="4416120" y="279720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igh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8"/>
          <p:cNvSpPr/>
          <p:nvPr/>
        </p:nvSpPr>
        <p:spPr>
          <a:xfrm>
            <a:off x="4419000" y="3538440"/>
            <a:ext cx="168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mproper Cool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0"/>
          <p:cNvSpPr/>
          <p:nvPr/>
        </p:nvSpPr>
        <p:spPr>
          <a:xfrm>
            <a:off x="4412160" y="153504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1"/>
          <p:cNvSpPr/>
          <p:nvPr/>
        </p:nvSpPr>
        <p:spPr>
          <a:xfrm>
            <a:off x="6679440" y="15350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Analyzing Stall Test Results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  <a:ea typeface="Arial"/>
              </a:rPr>
              <a:t>(cont’d)</a:t>
            </a:r>
            <a:endParaRPr b="0" lang="en-US" sz="18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sults often identify stator probl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uck stator symptom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igh torque converter-out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ehicle will not reach top spe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ansmission overheats at highway sp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tall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6338520" y="604188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9"/>
          <p:cNvSpPr/>
          <p:nvPr/>
        </p:nvSpPr>
        <p:spPr>
          <a:xfrm>
            <a:off x="6665760" y="5605560"/>
            <a:ext cx="20880" cy="43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"/>
          <p:cNvPicPr/>
          <p:nvPr/>
        </p:nvPicPr>
        <p:blipFill>
          <a:blip r:embed="rId1"/>
          <a:stretch/>
        </p:blipFill>
        <p:spPr>
          <a:xfrm>
            <a:off x="5361120" y="4343400"/>
            <a:ext cx="2428920" cy="1590840"/>
          </a:xfrm>
          <a:prstGeom prst="rect">
            <a:avLst/>
          </a:prstGeom>
          <a:ln w="0">
            <a:noFill/>
          </a:ln>
        </p:spPr>
      </p:pic>
      <p:sp>
        <p:nvSpPr>
          <p:cNvPr id="190" name="Straight Connector 13"/>
          <p:cNvSpPr/>
          <p:nvPr/>
        </p:nvSpPr>
        <p:spPr>
          <a:xfrm flipH="1">
            <a:off x="5878440" y="5605560"/>
            <a:ext cx="457200" cy="490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5"/>
          <p:cNvSpPr/>
          <p:nvPr/>
        </p:nvSpPr>
        <p:spPr>
          <a:xfrm>
            <a:off x="7250040" y="5475240"/>
            <a:ext cx="434880" cy="459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5213520" y="60213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7646040" y="58896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4416480" y="1882800"/>
            <a:ext cx="21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tremely Low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1"/>
          <p:cNvSpPr/>
          <p:nvPr/>
        </p:nvSpPr>
        <p:spPr>
          <a:xfrm>
            <a:off x="6680160" y="18828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2"/>
          <p:cNvSpPr/>
          <p:nvPr/>
        </p:nvSpPr>
        <p:spPr>
          <a:xfrm>
            <a:off x="6680520" y="2068560"/>
            <a:ext cx="164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eewheeling S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3"/>
          <p:cNvSpPr/>
          <p:nvPr/>
        </p:nvSpPr>
        <p:spPr>
          <a:xfrm>
            <a:off x="6680160" y="24271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4"/>
          <p:cNvSpPr/>
          <p:nvPr/>
        </p:nvSpPr>
        <p:spPr>
          <a:xfrm>
            <a:off x="6681600" y="299412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pping Clu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5"/>
          <p:cNvSpPr/>
          <p:nvPr/>
        </p:nvSpPr>
        <p:spPr>
          <a:xfrm>
            <a:off x="6682320" y="3189240"/>
            <a:ext cx="225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Converter-Out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6"/>
          <p:cNvSpPr/>
          <p:nvPr/>
        </p:nvSpPr>
        <p:spPr>
          <a:xfrm>
            <a:off x="6677640" y="353844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ck S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7"/>
          <p:cNvSpPr/>
          <p:nvPr/>
        </p:nvSpPr>
        <p:spPr>
          <a:xfrm>
            <a:off x="6681960" y="371160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oling System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8"/>
          <p:cNvSpPr/>
          <p:nvPr/>
        </p:nvSpPr>
        <p:spPr>
          <a:xfrm>
            <a:off x="6680160" y="27972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gine Power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29"/>
          <p:cNvSpPr/>
          <p:nvPr/>
        </p:nvSpPr>
        <p:spPr>
          <a:xfrm>
            <a:off x="6599160" y="1687680"/>
            <a:ext cx="0" cy="230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4095"/>
          <p:cNvSpPr/>
          <p:nvPr/>
        </p:nvSpPr>
        <p:spPr>
          <a:xfrm>
            <a:off x="4430880" y="2400480"/>
            <a:ext cx="4520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33"/>
          <p:cNvSpPr/>
          <p:nvPr/>
        </p:nvSpPr>
        <p:spPr>
          <a:xfrm>
            <a:off x="4435560" y="279072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34"/>
          <p:cNvSpPr/>
          <p:nvPr/>
        </p:nvSpPr>
        <p:spPr>
          <a:xfrm>
            <a:off x="4435560" y="353232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35"/>
          <p:cNvSpPr/>
          <p:nvPr/>
        </p:nvSpPr>
        <p:spPr>
          <a:xfrm>
            <a:off x="4435560" y="1844640"/>
            <a:ext cx="451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6"/>
          <p:cNvSpPr/>
          <p:nvPr/>
        </p:nvSpPr>
        <p:spPr>
          <a:xfrm>
            <a:off x="4416480" y="24271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7"/>
          <p:cNvSpPr/>
          <p:nvPr/>
        </p:nvSpPr>
        <p:spPr>
          <a:xfrm>
            <a:off x="4416120" y="279720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igh Stall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8"/>
          <p:cNvSpPr/>
          <p:nvPr/>
        </p:nvSpPr>
        <p:spPr>
          <a:xfrm>
            <a:off x="4419000" y="3538440"/>
            <a:ext cx="168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mproper Cool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0"/>
          <p:cNvSpPr/>
          <p:nvPr/>
        </p:nvSpPr>
        <p:spPr>
          <a:xfrm>
            <a:off x="4412160" y="153504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1"/>
          <p:cNvSpPr/>
          <p:nvPr/>
        </p:nvSpPr>
        <p:spPr>
          <a:xfrm>
            <a:off x="6679440" y="15350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4-02T17:45:37Z</dcterms:modified>
  <cp:revision>375</cp:revision>
  <dc:subject/>
  <dc:title>Introduction</dc:title>
</cp:coreProperties>
</file>