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6F7C-F103-4365-B264-558C9AF3B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CADE-012E-470C-8429-2A2D61047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DE3B-869C-4AE2-9643-886237935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F9F6-183A-48B7-9358-9DA329786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B8AD-CF18-4FC0-95AB-23D2BBB11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AC5F-5FB9-430D-8A1B-A3A9153D4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63EA-A89E-492F-862D-C2097ACA8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81A1-3B3F-4EA0-A9E0-41C910923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C66C-0954-4B69-B84D-C0C33FE4E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AF00-F42E-4832-A7BD-C5FB2E41F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D81F-FE47-49BF-B0D7-8D25639D3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89D9-0D0F-4EB8-ACD6-BBECA2EF1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21BF-E1BA-4850-9A6A-77152731A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56FC-EE9C-42DF-A780-4DBD35D00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E4D8-8A23-461D-ABB2-3EEEF97C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1503-8CF6-4C99-BFB9-41F17D12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7BAE-6492-4D52-89BA-C933AA54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8486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2400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8486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2400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1F8F-4AF8-4026-864E-81069CBF2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C770-D12F-440C-AE7E-CE4D187F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9F1D-DE1B-4B45-8924-CA357B00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3894-C157-4154-8D84-9EF37B56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A4F0-C3E4-4D54-9ED4-C3C32612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A740-BDC1-46DC-BB6C-58B8132C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686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738C-0BDC-4E82-9E87-71E44D4A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D587-1792-4D4D-B406-44CE29EA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A08D-47EA-405F-A0BD-995AC454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7E39-EC87-485F-A2D2-2DC97216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71DA-6F69-4A74-B110-A67E01ED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1692-84E6-4D49-8817-15EA899A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BB0F-54C5-42A3-A35E-513158F9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486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18486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32400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F498-8943-477D-AAFC-3ABE7381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5654-7EFF-42C4-B3DA-9A6F4F6D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0028-C2FB-492C-8AB0-085C2273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F21E-01A4-4470-A08C-2AD2A737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686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009B-18C3-4188-8BA0-B023A67F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E575-999A-46A7-8164-7E8FADF3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8EAE-34F8-454E-85BE-369C00FF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A2FF-7782-4B8F-87FA-963B53D4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A353-51BD-4951-A915-FF8D2036324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2971800" y="76320"/>
            <a:ext cx="617220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Product Familiar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40404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F62F-C692-405E-A18B-D4DB765CFD0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2971800" y="76320"/>
            <a:ext cx="617220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Product Famili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Adaptation Components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put adaptation components connect the transmission torque converter to the engine crankshaf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ront-end transmission component damage is often related to input adapt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isually inspect all adaptation components for wear, damage or distor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erform input adaptation measurements prior to installing the transmiss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4952880" y="2030400"/>
            <a:ext cx="3638520" cy="2847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5" name="TextBox 6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put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Flexplate Bolt Hole Flatness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stall the hub adapter, flexplates, flexplate adapter and wear plate on the engine and torque the crankshaft bol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ount the dial indicator base on the flywheel housi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osition the dial indicator base on the flywheel housi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osition the dial indicator button on the flexplates 292mm (11.5 in.) from the center of the crankshaf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Zero the indicat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 Total Indicated Runout (TI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4549680" y="1535040"/>
            <a:ext cx="4391280" cy="1905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54" name="Picture 4" descr=""/>
          <p:cNvPicPr/>
          <p:nvPr/>
        </p:nvPicPr>
        <p:blipFill>
          <a:blip r:embed="rId3"/>
          <a:stretch/>
        </p:blipFill>
        <p:spPr>
          <a:xfrm>
            <a:off x="4549680" y="4240080"/>
            <a:ext cx="4362480" cy="14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55" name="TextBox 9"/>
          <p:cNvSpPr/>
          <p:nvPr/>
        </p:nvSpPr>
        <p:spPr>
          <a:xfrm>
            <a:off x="7224840" y="3119400"/>
            <a:ext cx="155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void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ankshaft end pl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put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Torque Converter Axial Location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000 &amp; 2000 Product Famil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stall the hub adapter, flexplates and wear plate and torque the bol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stall the flexplate adapter to the flexplates and torque the bol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easure from the face of the flywheel housing to the face of the flexplate adapter 292mm (11.5 in.) from the center of the crankshaf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4456080" y="1720800"/>
            <a:ext cx="4343400" cy="2143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61" name="Picture 4" descr=""/>
          <p:cNvPicPr/>
          <p:nvPr/>
        </p:nvPicPr>
        <p:blipFill>
          <a:blip r:embed="rId3"/>
          <a:stretch/>
        </p:blipFill>
        <p:spPr>
          <a:xfrm>
            <a:off x="4749840" y="4657680"/>
            <a:ext cx="3933720" cy="126684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62" name="TextBox 9"/>
          <p:cNvSpPr/>
          <p:nvPr/>
        </p:nvSpPr>
        <p:spPr>
          <a:xfrm>
            <a:off x="5054400" y="3822840"/>
            <a:ext cx="317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a depth gauge to measure. Make 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rankshaft is thrust all the way rear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put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Torque Converter Axial Location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000 &amp; 4000 Product Famil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move the flexplate adapter from the torque convert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osition the transmission output shaft down, torque converter install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Use a depth gauge to measure from the face of the torque converter housing to the torque converter flexplate adapter mounting surfac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2851200" y="4632480"/>
            <a:ext cx="3581280" cy="131436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5373720" y="1625760"/>
            <a:ext cx="3017880" cy="2323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69" name="TextBox 9"/>
          <p:cNvSpPr/>
          <p:nvPr/>
        </p:nvSpPr>
        <p:spPr>
          <a:xfrm>
            <a:off x="5414760" y="3900600"/>
            <a:ext cx="29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example, the straight-edge width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tracted from the depth gauge rea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put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Final Component Installation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Position the crankshaft hub adapter on the back of the engin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Position the flexplates on the crankshaft hub adapter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Position the wear plate on the installed flexplat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nstall and torque the bolts securing the entire assembly to the back of the engin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nstall the flexplate adapter to the flexplates or torque converter (depending on configuration) and torque the mounting bolts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4870440" y="1897200"/>
            <a:ext cx="3665520" cy="28191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4" name="TextBox 5"/>
          <p:cNvSpPr/>
          <p:nvPr/>
        </p:nvSpPr>
        <p:spPr>
          <a:xfrm>
            <a:off x="5325120" y="4668840"/>
            <a:ext cx="29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ical adaptation hardware instal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put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Adaptation Components </a:t>
            </a:r>
            <a:r>
              <a:rPr b="1" lang="en-US" sz="1800" spc="-1" strike="noStrike">
                <a:solidFill>
                  <a:srgbClr val="bfbfbf"/>
                </a:solidFill>
                <a:latin typeface="Arial"/>
                <a:ea typeface="Arial"/>
              </a:rPr>
              <a:t>(cont’d)</a:t>
            </a:r>
            <a:endParaRPr b="0" lang="en-US" sz="18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put adaptation reference resour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 Mechanic’s Tips bookle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rvice Information Letter (SIL) 60-TR-81 (available on the Allison Extranet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swfButton.png"/>
          <p:cNvPicPr/>
          <p:nvPr/>
        </p:nvPicPr>
        <p:blipFill>
          <a:blip r:embed="rId2"/>
          <a:stretch/>
        </p:blipFill>
        <p:spPr>
          <a:xfrm>
            <a:off x="1909800" y="6162840"/>
            <a:ext cx="1333440" cy="285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swfButton.png"/>
          <p:cNvPicPr/>
          <p:nvPr/>
        </p:nvPicPr>
        <p:blipFill>
          <a:blip r:embed="rId3"/>
          <a:stretch/>
        </p:blipFill>
        <p:spPr>
          <a:xfrm>
            <a:off x="326556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put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4"/>
          <a:stretch/>
        </p:blipFill>
        <p:spPr>
          <a:xfrm>
            <a:off x="4952880" y="2030400"/>
            <a:ext cx="3638520" cy="2847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Measuring Tools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quired measuring tool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5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600mm (24 in.) vernier calip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5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0-100mm (2-4 in.) telescoping gau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5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5-76mm (1-3 in.) outside microme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5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ial indicator and mounting attachm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5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0-150mm (0-6 in.) depth microme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lean and inspect all components thoroughly prior to performing measurem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hen installing crankshaft bolts for measuring purposes, torque the bolts per the engine manufacturer’s recommend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697280" y="2238480"/>
            <a:ext cx="4210200" cy="2417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6" name="TextBox 2"/>
          <p:cNvSpPr/>
          <p:nvPr/>
        </p:nvSpPr>
        <p:spPr>
          <a:xfrm>
            <a:off x="5339520" y="4605480"/>
            <a:ext cx="29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ical input adaptation measuring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put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Flywheel Housing Pilot Bore Diameter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 an inside micromet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r vernier calip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easure the housing where the transmission torque convert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using lip res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890640" y="3643200"/>
            <a:ext cx="4105080" cy="207504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5375160" y="1616040"/>
            <a:ext cx="3495960" cy="2586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3" name="TextBox 9"/>
          <p:cNvSpPr/>
          <p:nvPr/>
        </p:nvSpPr>
        <p:spPr>
          <a:xfrm>
            <a:off x="5879880" y="4218120"/>
            <a:ext cx="244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easuring instrument sh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sect the housing center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put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Flywheel Housing Bore Runout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unt the dial indicator base on the crankshaft hub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osition the dial indicator button on the inside diameter of the flywheel hous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Zero the dial indicato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otate the crankshaft one complete revolu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ad Total Indicated Runout (TIR) – all indicator movement both positive and negativ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unout can sometimes be changed by repositioning the flywheel housing on the back of the engin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4737240" y="1789200"/>
            <a:ext cx="3771720" cy="2579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19" name="Picture 3" descr=""/>
          <p:cNvPicPr/>
          <p:nvPr/>
        </p:nvPicPr>
        <p:blipFill>
          <a:blip r:embed="rId3"/>
          <a:stretch/>
        </p:blipFill>
        <p:spPr>
          <a:xfrm>
            <a:off x="4711680" y="5087880"/>
            <a:ext cx="3943440" cy="90504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0" name="TextBox 9"/>
          <p:cNvSpPr/>
          <p:nvPr/>
        </p:nvSpPr>
        <p:spPr>
          <a:xfrm>
            <a:off x="4777920" y="4338720"/>
            <a:ext cx="377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on the indicator on the housing inside dia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put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Flywheel Housing Face Squareness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unt the dial indicator base on the crankshaft hu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sition the dial indicator button on the face of the flywheel hous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ero the dial indica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otate the crankshaft one complete revolu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 Total Indicated Runout (TIR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4765680" y="1481040"/>
            <a:ext cx="3771720" cy="2570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4726080" y="4876920"/>
            <a:ext cx="3932280" cy="95256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7" name="TextBox 9"/>
          <p:cNvSpPr/>
          <p:nvPr/>
        </p:nvSpPr>
        <p:spPr>
          <a:xfrm>
            <a:off x="4992480" y="4051440"/>
            <a:ext cx="349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on the indicator button on the housing 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void allowing the button to contact bolt ho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put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Crankshaft Hub Pilot or Adapter Diameter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easure using an inside micrometer or a telescoping gauge and outside microme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ake measurements in at least two loc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4994280" y="1708200"/>
            <a:ext cx="3486240" cy="2390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3" name="Picture 4" descr=""/>
          <p:cNvPicPr/>
          <p:nvPr/>
        </p:nvPicPr>
        <p:blipFill>
          <a:blip r:embed="rId3"/>
          <a:stretch/>
        </p:blipFill>
        <p:spPr>
          <a:xfrm>
            <a:off x="1081080" y="4309920"/>
            <a:ext cx="3913200" cy="124776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4" name="TextBox 9"/>
          <p:cNvSpPr/>
          <p:nvPr/>
        </p:nvSpPr>
        <p:spPr>
          <a:xfrm>
            <a:off x="5658120" y="4032360"/>
            <a:ext cx="24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ce gauge in bore’s center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put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Crankshaft Hub Pilot or Adapter Face Squareness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stall the hub adapter if used – torque bolts to engine manufacturer’s specifica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ount the dial indicator base on the flywheel housi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osition the dial indicator button on the face of the hub pilot or adapt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Zero the dial indicat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tate the crankshaft one complete revolu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 Total Indicated Runout (TI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4854600" y="1627200"/>
            <a:ext cx="3714840" cy="2562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0" name="Picture 4" descr=""/>
          <p:cNvPicPr/>
          <p:nvPr/>
        </p:nvPicPr>
        <p:blipFill>
          <a:blip r:embed="rId3"/>
          <a:stretch/>
        </p:blipFill>
        <p:spPr>
          <a:xfrm>
            <a:off x="4743360" y="4902120"/>
            <a:ext cx="3934080" cy="92232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41" name="TextBox 9"/>
          <p:cNvSpPr/>
          <p:nvPr/>
        </p:nvSpPr>
        <p:spPr>
          <a:xfrm>
            <a:off x="5523840" y="4140360"/>
            <a:ext cx="245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rque crankshaft bolts to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ufacturer’s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put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Crankshaft Hub Pilot or Adapter Concentricity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stall the hub adapter if used – torque bolts to engine manufacturer’s specifica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ount the dial indicator base on the flywheel housi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osition the dial indicator button on the inside bore of the hub pilot or adapt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Zero the dial indicat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tate the crankshaft one complete revolu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 Total Indicated Runout (TI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5108400" y="1719360"/>
            <a:ext cx="3400560" cy="2219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4803840" y="4746600"/>
            <a:ext cx="3962160" cy="129528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48" name="TextBox 9"/>
          <p:cNvSpPr/>
          <p:nvPr/>
        </p:nvSpPr>
        <p:spPr>
          <a:xfrm>
            <a:off x="5569560" y="3900600"/>
            <a:ext cx="256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on the indicator button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sion on the inside of the b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put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Scott Scull</cp:lastModifiedBy>
  <dcterms:modified xsi:type="dcterms:W3CDTF">2013-04-02T17:40:46Z</dcterms:modified>
  <cp:revision>345</cp:revision>
  <dc:subject/>
  <dc:title>Introduction</dc:title>
</cp:coreProperties>
</file>