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d9d9"/>
                </a:solidFill>
                <a:latin typeface="Arial Black"/>
              </a:rPr>
              <a:t>Click to move the slide</a:t>
            </a: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FBFFB-DDC3-485A-85CD-FBCD9ECC64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33FC0-AF21-48D2-A0D3-0A9BDE3AB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85F64-D2C9-489C-A662-4032488E6C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7AA67-644D-42F8-B024-7AF7C5007A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61EDC-FE18-460C-9ABA-A9DBA72191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EC911-351B-4497-B0B4-7F9871BC31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24DBD-BC77-4220-A28A-EFCF9182D9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85A26-AC37-45FE-800D-5597BCC04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C10C-456F-41EB-A9B1-F3E1D615C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411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100B-5197-4C6C-947D-21B67F62E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565720" y="160020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2565720" y="396432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158E-8882-423E-83B4-704EF2EB2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32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848600" y="1600200"/>
            <a:ext cx="132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240000" y="1600200"/>
            <a:ext cx="132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132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1848600" y="3964320"/>
            <a:ext cx="132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3240000" y="3964320"/>
            <a:ext cx="132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92D4-881F-4220-B642-AF8B98838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A63C5-E94B-4843-A882-E159D2B69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9CF17-57E1-4273-92E4-A8E3BFF97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5A40E-2E13-4729-AD18-AC0E12034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007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565720" y="1600200"/>
            <a:ext cx="2007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64AA9-8760-47DB-BA54-CAD65E061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E8E06-D7FE-4B8A-9B28-5770A8C71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914400"/>
            <a:ext cx="868680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0574D-D51E-419E-A35F-95D43EBAC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2565720" y="1600200"/>
            <a:ext cx="2007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95A8F-1AEF-4AA7-BC3B-32B361308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B7DA-B8F1-4481-83A9-0D63E2887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007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2565720" y="160020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565720" y="396432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796E9-3C67-4BB3-9738-B87B7A22B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565720" y="160020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11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53B5F-F007-4239-A294-5A7D43479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411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4B6FA-DB37-4942-A33E-B712CDD43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565720" y="160020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2565720" y="396432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396B3-1FC1-45E5-9C3D-B412A41C5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32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848600" y="1600200"/>
            <a:ext cx="132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0" y="1600200"/>
            <a:ext cx="132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132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1848600" y="3964320"/>
            <a:ext cx="132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3240000" y="3964320"/>
            <a:ext cx="132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037EE-7E8F-4267-B045-94BFBE632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7C33-F9BF-4DB5-BD1E-3A65AB034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007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2565720" y="1600200"/>
            <a:ext cx="2007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E2A8-4B04-458F-AABD-D1222D3FB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39B7-EEF5-43B7-8FC7-C59B049A0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914400"/>
            <a:ext cx="868680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52B1-DC3F-4862-BC48-9811F21AA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2565720" y="1600200"/>
            <a:ext cx="2007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9521-F7CE-462E-AEC0-173D6C480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007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2565720" y="160020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565720" y="396432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31CB-82ED-431F-8DC3-7CFAAD941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565720" y="1600200"/>
            <a:ext cx="200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11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1406-6ABE-4E89-A68F-C35DB59FC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d9d9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71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7D6A6-6192-45CC-B475-B6594C444A5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2971800" y="76320"/>
            <a:ext cx="6172200" cy="5205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Arial Black"/>
              </a:rPr>
              <a:t>Product Familiar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40404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4771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009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14EB1-A517-421B-AE9F-A9ADFACA792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6"/>
          <p:cNvSpPr/>
          <p:nvPr/>
        </p:nvSpPr>
        <p:spPr>
          <a:xfrm>
            <a:off x="2971800" y="76320"/>
            <a:ext cx="6172200" cy="5205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Arial Black"/>
              </a:rPr>
              <a:t>Product Familiar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hyperlink" Target="file:///resources/tc10_PreventiveMaintenance/ppts/ResourceGraphic-4a.ppt" TargetMode="External"/><Relationship Id="rId4" Type="http://schemas.openxmlformats.org/officeDocument/2006/relationships/image" Target="../media/image11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Resources</a:t>
            </a: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599840"/>
            <a:ext cx="388944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 variety of preventive maintenance reference resources are available includ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echanic’s Tip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Operator’s Manu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ervice Information Letters (SILs), Service Tips and Tech Tip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The Allison Transmission websi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ference these resources fo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rocedur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commended fluid and filter change interval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commended fluid typ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fill capac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roduct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update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4481640" y="939960"/>
            <a:ext cx="4744800" cy="55180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Inspection</a:t>
            </a: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spect the transmission, mounting components, the driveline and related vehicle systems during preventive maintenan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heck for loose mounting hardware and damaged component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ake sure wiring harnesses are properly secured, undamaged and connectors are in plac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ake sure cooler lines or hoses are properly routed and secured; verify the lines and fittings are not leaking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heck for fluid leaks especially at seal and gasket area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4448160" y="833400"/>
            <a:ext cx="4651560" cy="32371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"/>
          <p:cNvPicPr/>
          <p:nvPr/>
        </p:nvPicPr>
        <p:blipFill>
          <a:blip r:embed="rId2"/>
          <a:stretch/>
        </p:blipFill>
        <p:spPr>
          <a:xfrm>
            <a:off x="4637160" y="3618000"/>
            <a:ext cx="4273560" cy="30258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3" descr="swfButton.png"/>
          <p:cNvPicPr/>
          <p:nvPr/>
        </p:nvPicPr>
        <p:blipFill>
          <a:blip r:embed="rId3"/>
          <a:stretch/>
        </p:blipFill>
        <p:spPr>
          <a:xfrm>
            <a:off x="542880" y="6172200"/>
            <a:ext cx="1333440" cy="2858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3" descr="swfButton.png"/>
          <p:cNvPicPr/>
          <p:nvPr/>
        </p:nvPicPr>
        <p:blipFill>
          <a:blip r:embed="rId1"/>
          <a:stretch/>
        </p:blipFill>
        <p:spPr>
          <a:xfrm>
            <a:off x="542880" y="6172200"/>
            <a:ext cx="1333440" cy="2858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Drain Fluid &amp; Filter Change</a:t>
            </a: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2852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rain the flu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Warm the engine to normal operating temperature before draining the fluid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move the drain plug from the transmission oil pa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Examine the drained fluid for evidence of debris or contaminati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nstall and lube a new drain plug seal, then install and torque the drain plug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2"/>
          <a:stretch/>
        </p:blipFill>
        <p:spPr>
          <a:xfrm>
            <a:off x="3309840" y="1538280"/>
            <a:ext cx="5888160" cy="47260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3" descr="swfButton.png"/>
          <p:cNvPicPr/>
          <p:nvPr/>
        </p:nvPicPr>
        <p:blipFill>
          <a:blip r:embed="rId3"/>
          <a:stretch/>
        </p:blipFill>
        <p:spPr>
          <a:xfrm>
            <a:off x="1779480" y="6178680"/>
            <a:ext cx="1333440" cy="2854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Drain Fluid &amp; Filter Change</a:t>
            </a:r>
            <a:r>
              <a:rPr b="1" lang="en-US" sz="1200" spc="-1" strike="noStrike">
                <a:solidFill>
                  <a:srgbClr val="bfbfbf"/>
                </a:solidFill>
                <a:latin typeface="Arial"/>
                <a:ea typeface="Arial"/>
              </a:rPr>
              <a:t> (cont’d)</a:t>
            </a:r>
            <a:endParaRPr b="0" lang="en-US" sz="12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move the lube fil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move the cooler return filter assembly co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ull the filter from the hous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move the cover O-r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4514760" y="1324080"/>
            <a:ext cx="4618080" cy="54925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3" descr="swfButton.png"/>
          <p:cNvPicPr/>
          <p:nvPr/>
        </p:nvPicPr>
        <p:blipFill>
          <a:blip r:embed="rId2"/>
          <a:stretch/>
        </p:blipFill>
        <p:spPr>
          <a:xfrm>
            <a:off x="542880" y="6172200"/>
            <a:ext cx="1333440" cy="2858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3" descr="swfButton.png"/>
          <p:cNvPicPr/>
          <p:nvPr/>
        </p:nvPicPr>
        <p:blipFill>
          <a:blip r:embed="rId3"/>
          <a:stretch/>
        </p:blipFill>
        <p:spPr>
          <a:xfrm>
            <a:off x="1779480" y="6178680"/>
            <a:ext cx="1333440" cy="2854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Drain Fluid &amp; Filter Change</a:t>
            </a:r>
            <a:r>
              <a:rPr b="1" lang="en-US" sz="1200" spc="-1" strike="noStrike">
                <a:solidFill>
                  <a:srgbClr val="bfbfbf"/>
                </a:solidFill>
                <a:latin typeface="Arial"/>
                <a:ea typeface="Arial"/>
              </a:rPr>
              <a:t> (cont’d)</a:t>
            </a:r>
            <a:endParaRPr b="0" lang="en-US" sz="12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6840" y="1600200"/>
            <a:ext cx="3290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Install the lube fil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stall and lube the cover O-ring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Lube the filter O-ring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Install the filter, inserting it into the assembly and over the pilot inside the canister hous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stall and torque the cooler return filter assembly cove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3747960" y="1346040"/>
            <a:ext cx="5326200" cy="52358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3" descr="swfButton.png"/>
          <p:cNvPicPr/>
          <p:nvPr/>
        </p:nvPicPr>
        <p:blipFill>
          <a:blip r:embed="rId2"/>
          <a:stretch/>
        </p:blipFill>
        <p:spPr>
          <a:xfrm>
            <a:off x="542880" y="6172200"/>
            <a:ext cx="1333440" cy="2858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swfButton.png"/>
          <p:cNvPicPr/>
          <p:nvPr/>
        </p:nvPicPr>
        <p:blipFill>
          <a:blip r:embed="rId3"/>
          <a:stretch/>
        </p:blipFill>
        <p:spPr>
          <a:xfrm>
            <a:off x="1779480" y="6178680"/>
            <a:ext cx="1333440" cy="2854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Fluid Refill &amp; Check</a:t>
            </a: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fill the transmission with flu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ference the appropriate Allison publication for refill capacities and approved fluid type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tart the engine, allow the fluid to warm, then check the level using the Oil Level Senso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Add or drain fluid as needed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perate the vehicle, check for fluid leaks and re-check the fluid leve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4340160" y="768240"/>
            <a:ext cx="4587840" cy="50310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9"/>
          <p:cNvSpPr/>
          <p:nvPr/>
        </p:nvSpPr>
        <p:spPr>
          <a:xfrm>
            <a:off x="4267080" y="5683320"/>
            <a:ext cx="4865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e46c0a"/>
                </a:solidFill>
                <a:latin typeface="Arial"/>
              </a:rPr>
              <a:t>Transmission fluid cools and lubricates the transmission and is critical to proper transmission operation and long transmission lif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9" descr="swfButton.png"/>
          <p:cNvPicPr/>
          <p:nvPr/>
        </p:nvPicPr>
        <p:blipFill>
          <a:blip r:embed="rId2"/>
          <a:stretch/>
        </p:blipFill>
        <p:spPr>
          <a:xfrm>
            <a:off x="3054240" y="6172200"/>
            <a:ext cx="1333440" cy="2858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9" descr="swfButton.p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94240" y="6178680"/>
            <a:ext cx="1333440" cy="285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3" descr="swfButton.png"/>
          <p:cNvPicPr/>
          <p:nvPr/>
        </p:nvPicPr>
        <p:blipFill>
          <a:blip r:embed="rId5"/>
          <a:stretch/>
        </p:blipFill>
        <p:spPr>
          <a:xfrm>
            <a:off x="542880" y="6172200"/>
            <a:ext cx="1333440" cy="2858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3" descr="swfButton.png"/>
          <p:cNvPicPr/>
          <p:nvPr/>
        </p:nvPicPr>
        <p:blipFill>
          <a:blip r:embed="rId6"/>
          <a:stretch/>
        </p:blipFill>
        <p:spPr>
          <a:xfrm>
            <a:off x="1789200" y="6178680"/>
            <a:ext cx="1333440" cy="2854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Resetting Prognostics Indicators</a:t>
            </a:r>
            <a:endParaRPr b="0" lang="en-US" sz="2400" spc="-1" strike="noStrike">
              <a:solidFill>
                <a:srgbClr val="d9d9d9"/>
              </a:solidFill>
              <a:latin typeface="Arial Black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3370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f enabled, prognostics must be reset after performing the fluid and filter chan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he Oil Life Monitor and Filter Life Monitor can be reset manually using the vehicle shift selecto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Allison DOC® can also be used to reset prognostic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3927600" y="1473120"/>
            <a:ext cx="5159160" cy="47689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3" descr="swfButton.png"/>
          <p:cNvPicPr/>
          <p:nvPr/>
        </p:nvPicPr>
        <p:blipFill>
          <a:blip r:embed="rId2"/>
          <a:stretch/>
        </p:blipFill>
        <p:spPr>
          <a:xfrm>
            <a:off x="542880" y="6172200"/>
            <a:ext cx="1333440" cy="2858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swfButton.png"/>
          <p:cNvPicPr/>
          <p:nvPr/>
        </p:nvPicPr>
        <p:blipFill>
          <a:blip r:embed="rId3"/>
          <a:stretch/>
        </p:blipFill>
        <p:spPr>
          <a:xfrm>
            <a:off x="1789200" y="6178680"/>
            <a:ext cx="1333440" cy="2854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3T16:05:24Z</dcterms:created>
  <dc:creator>Ron</dc:creator>
  <dc:description/>
  <dc:language>en-US</dc:language>
  <cp:lastModifiedBy>Scott Scull</cp:lastModifiedBy>
  <dcterms:modified xsi:type="dcterms:W3CDTF">2013-04-02T17:31:16Z</dcterms:modified>
  <cp:revision>483</cp:revision>
  <dc:subject/>
  <dc:title>Introduction</dc:title>
</cp:coreProperties>
</file>