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7A32-20CF-4A91-B90B-4E84A4427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F859-D203-4D26-B03D-F8A432817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6641-769E-433F-A46D-B319FA16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972D-7334-4B6D-9A10-9FBE285AD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C6CF-1ED5-42F1-B68B-A04AFCD63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F6B0-EF81-410A-AB8A-FB15B71DD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BBC3-3FB8-49CF-A675-AED9FC0B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C2D0-405A-4211-AE65-22A51324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CBD6-B583-4474-9A92-46A63483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5AE5-E23C-4737-A131-3AD59824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98B-98A8-4526-B007-FB6B8C90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6F6-02A1-4E87-B586-0095BEB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209-F51A-408F-91F9-92736500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E20-3DD6-4F23-A68E-16B4688D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B4A8-03DD-468D-BF67-F670E1B6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E38E-3314-4262-8A8C-D9696D05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02B1-6A17-4B85-B71C-00D5174E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210-716A-4F95-9E7D-F449098C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0CE5-58E5-47FC-AF00-E491639C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1570-66C0-4098-A9A0-0A71D6D6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1AB-5780-4A69-B5FE-9219873B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A9F-3300-49D8-B524-2F8D767F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61F2-DB67-472D-B8D2-C31C6F76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B32D-58EF-4DE4-B3AF-4B9DE57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9D7B-DA3E-4729-B68E-6060A665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530E-45DB-40F2-A67C-65BD4A9C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A0BD-CE0F-4FDF-A8B3-2E3CACF9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D66-7282-42CC-8F1B-27CFE3D3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ED7-A698-439C-8331-199B0669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F4D-0BD4-471E-AB68-5887494C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641-78E0-4774-AEA8-4C0E0BCB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0CA-52F9-45E7-A61C-4E7A261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A00-49D1-4469-92A9-7228F26E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D71-032F-4908-87B2-1B129675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B7A0-0514-438D-9AA7-FE38727B5A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4E5F-6DC4-467A-87B9-2A16996C0C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389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AE J1939 is a standard used for vehicle communication and diagnostic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so called a “datalink” or a “Controller Area Network” (CA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aster and more reliable than previous J1708 and J1587 specif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J1939 reduces vehicle wiring and communicates a broad range of information including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hicle operation contr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wertrain inte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hicle management in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ference the Allison Extranet for detailed datalink information including J193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3" descr="swfButton.png"/>
          <p:cNvPicPr/>
          <p:nvPr/>
        </p:nvPicPr>
        <p:blipFill>
          <a:blip r:embed="rId1"/>
          <a:stretch/>
        </p:blipFill>
        <p:spPr>
          <a:xfrm>
            <a:off x="190980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swfButton.png"/>
          <p:cNvPicPr/>
          <p:nvPr/>
        </p:nvPicPr>
        <p:blipFill>
          <a:blip r:embed="rId2"/>
          <a:stretch/>
        </p:blipFill>
        <p:spPr>
          <a:xfrm>
            <a:off x="311796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swfButton.png"/>
          <p:cNvPicPr/>
          <p:nvPr/>
        </p:nvPicPr>
        <p:blipFill>
          <a:blip r:embed="rId3"/>
          <a:stretch/>
        </p:blipFill>
        <p:spPr>
          <a:xfrm>
            <a:off x="571680" y="617364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tretch/>
        </p:blipFill>
        <p:spPr>
          <a:xfrm>
            <a:off x="4352760" y="1517760"/>
            <a:ext cx="4638960" cy="3495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8" name="TextBox 4"/>
          <p:cNvSpPr/>
          <p:nvPr/>
        </p:nvSpPr>
        <p:spPr>
          <a:xfrm>
            <a:off x="5431680" y="50212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00/2000 Product Families J19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Cable Constru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39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E J1939-11 cable is shielded and includes a 120 ohm impedance twisted pair and a drain wi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mpedance affects the volume and rate of information flow and must be correct for proper databus ope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is-matched cables, tight bends, long breaks in shielding and improper cable design can affect impedance and perform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per wires, terminals, connectors and components must be used  whenever building or repairing J1939 c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E J1939-15 (J1939 “Light”) uses unshielded cable and is not Allison recommended due to increased susceptibility to electromagnetic interfere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375080" y="1517760"/>
            <a:ext cx="4543560" cy="3600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Backbone Desig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384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J1939 networks consist of a central “backbone” with “stubs” branching to individual controllers or “nodes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 120 ohm termination resistor is required at each end of the backbo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ination resistors can be built into some electronic components, including Allison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Generation Controls TCMs and J1939-based shift sele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ackbones may be no longer than 40 met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ubs may be no longer than 1 meter and spaced at least 10 centimeters apar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305240" y="1517760"/>
            <a:ext cx="4686480" cy="3924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Termination Resistor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th all controllers connected but powered off and both termination resistors in place, approximately 60 ohms resistance should exist between terminals A and B of a stub conne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sure between terminals C and D on 9-pin in-cab diagnostic conne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ohms indicates one of the termination resistors is not install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is can also indicate an open somewhere in the backb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 ohms indicates a short between CAN high and CAN low wi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hort could be in the backbone or one of the stub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4543560" y="1517760"/>
            <a:ext cx="4389480" cy="4000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Opens and Short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pens can affect one or more controllers but will have the most impact on the controller attached to the affected stu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horts typically generate multiple controller err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pens and shorts can be located by performing continuity chec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swfButton.png"/>
          <p:cNvPicPr/>
          <p:nvPr/>
        </p:nvPicPr>
        <p:blipFill>
          <a:blip r:embed="rId2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swfButton.png"/>
          <p:cNvPicPr/>
          <p:nvPr/>
        </p:nvPicPr>
        <p:blipFill>
          <a:blip r:embed="rId3"/>
          <a:stretch/>
        </p:blipFill>
        <p:spPr>
          <a:xfrm>
            <a:off x="3433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"/>
          <p:cNvPicPr/>
          <p:nvPr/>
        </p:nvPicPr>
        <p:blipFill>
          <a:blip r:embed="rId4"/>
          <a:stretch/>
        </p:blipFill>
        <p:spPr>
          <a:xfrm>
            <a:off x="3927600" y="1511280"/>
            <a:ext cx="5913360" cy="457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Opens and Short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354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re advanced diagnostics can be performed using Allison DOC™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se the Data Bus Viewe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ference Datalink Communications Tech Data for Parameter description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rify data is being broadcast and/or receiv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swfButton.png"/>
          <p:cNvPicPr/>
          <p:nvPr/>
        </p:nvPicPr>
        <p:blipFill>
          <a:blip r:embed="rId1"/>
          <a:stretch/>
        </p:blipFill>
        <p:spPr>
          <a:xfrm>
            <a:off x="571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swfButton.png"/>
          <p:cNvPicPr/>
          <p:nvPr/>
        </p:nvPicPr>
        <p:blipFill>
          <a:blip r:embed="rId2"/>
          <a:stretch/>
        </p:blipFill>
        <p:spPr>
          <a:xfrm>
            <a:off x="193212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swfButton.png"/>
          <p:cNvPicPr/>
          <p:nvPr/>
        </p:nvPicPr>
        <p:blipFill>
          <a:blip r:embed="rId3"/>
          <a:stretch/>
        </p:blipFill>
        <p:spPr>
          <a:xfrm>
            <a:off x="34336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3927600" y="1511280"/>
            <a:ext cx="5913360" cy="457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Inducted Nois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per backbone routing minimizes inducted noise iss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void routing near high-current switching devic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lenoi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ltern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lasher mod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igh output CB rad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arter mo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l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e Allison DOC™ Data Bus Viewer to monitor datalink messages while trying to recreate the iss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atch for errors or pauses in datalink traffi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18000" y="1542960"/>
            <a:ext cx="5186520" cy="3890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Calibration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spect an improper calibration or CMC settings if the system worked fine before, but not after recalibrating any networked controller softw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tential Allison miscalibration cau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uto-Detect completed before all controllers were connected to the datalin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eset Auto-Detect using Allison DOC™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calibration was created with an incorrect datalink package, requiring installation of a new calibr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294080" y="1517760"/>
            <a:ext cx="4764240" cy="334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3" name="Straight Connector 4"/>
          <p:cNvSpPr/>
          <p:nvPr/>
        </p:nvSpPr>
        <p:spPr>
          <a:xfrm flipV="1">
            <a:off x="6945480" y="1698480"/>
            <a:ext cx="57600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7449480" y="15127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"/>
          <p:cNvSpPr/>
          <p:nvPr/>
        </p:nvSpPr>
        <p:spPr>
          <a:xfrm>
            <a:off x="5540400" y="4321080"/>
            <a:ext cx="730080" cy="89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108760" y="514836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MC settings must be corr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Troubleshooting – Calibrations </a:t>
            </a:r>
            <a:r>
              <a:rPr b="1" lang="en-US" sz="1800" spc="-1" strike="noStrike">
                <a:solidFill>
                  <a:srgbClr val="bfbfbf"/>
                </a:solidFill>
                <a:latin typeface="Arial"/>
                <a:ea typeface="Arial"/>
              </a:rPr>
              <a:t>(cont’d)</a:t>
            </a:r>
            <a:endParaRPr b="0" lang="en-US" sz="18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tential engine miscalibration cau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ansmission Type incorrectly s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compatible engine governor select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gine brake options incorrectly s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J1939 communication not activat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276720" y="-27000"/>
            <a:ext cx="563868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iagnostic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19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94080" y="1517760"/>
            <a:ext cx="4764240" cy="334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1" name="Straight Connector 4"/>
          <p:cNvSpPr/>
          <p:nvPr/>
        </p:nvSpPr>
        <p:spPr>
          <a:xfrm flipV="1">
            <a:off x="6945480" y="1698480"/>
            <a:ext cx="576000" cy="27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7449480" y="15127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7"/>
          <p:cNvSpPr/>
          <p:nvPr/>
        </p:nvSpPr>
        <p:spPr>
          <a:xfrm>
            <a:off x="5540400" y="4321080"/>
            <a:ext cx="730080" cy="893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108760" y="514836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MC settings must be corr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47:47Z</dcterms:modified>
  <cp:revision>350</cp:revision>
  <dc:subject/>
  <dc:title>Introduction</dc:title>
</cp:coreProperties>
</file>