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3F3D-B890-4E4C-A915-BA7E9E7DE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E5DD-AB0E-406E-BAF7-D26E269F2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DC7D-4B38-4DB3-B406-BBD48212B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A793-0DBD-498D-9EA0-AC90B914F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B210-1C96-43BD-B5C9-09BA0CF33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1FB7-8465-41F1-B45D-35940A832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29EE-91C4-4BAF-998C-2ADBCCDA5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1E2B-9D0F-4B29-B40F-301B77157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A2BB-4518-413A-80BB-7F028A3D6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83A4-3656-41AF-B392-81C889AA5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93F0-8AD8-47DD-B13B-F1A64F36A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664-AFB0-41B2-99E9-50EF4625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82C-A7E8-4D18-805B-ACDA4A5C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0111-C75D-4188-91DF-7CE09429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486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2400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8486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2400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EEF1-E449-440E-97D2-E28DC694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E70E-4EFC-4741-9BD2-8E394B25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21DD-2F85-43C9-BB57-6BBC09DC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245A-A527-44B3-8470-221CFFE8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70FF-53F1-4F8D-BB96-1A22BD46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4109-3D45-4DD5-B544-5ECF0E0A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686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C83F-A02C-4C3C-BCA5-935CFA0B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B3CE-F5A5-4D16-AED1-0A4B3E5A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0610-5EF2-4124-9311-6AF5E83E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E58C-0F23-495B-86BC-B3B98929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837C-F8D9-4699-980E-07823EBE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070C-7E04-4260-BA5F-6D4B59FB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6827-FB25-4705-8330-FFDF6930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486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8486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2400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866F-640E-4BD3-910B-3D781C6C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BEF2-8EFF-4F3E-B596-AABA60FE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4304-1F2A-4D79-88FC-2C8DFD7A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A56C-45B4-45B6-87B4-685B71A9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686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EDA1-3FA7-4EA3-9FB1-24865161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481-2111-40AF-94CC-43AD0099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E87-B794-4653-BC8A-89A2F8C5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4E46-A4C6-4E13-ABA3-A6B2708B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5CAA-160B-4278-BCED-EF056F9BF0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2971800" y="76320"/>
            <a:ext cx="617220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Product Familiar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40404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D044-DBBA-417A-9890-2CD62D71D9A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2971800" y="76320"/>
            <a:ext cx="617220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Product Famili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Introduction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600200"/>
            <a:ext cx="336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per driveline phasing and angularity minimize potential vibration and transmission dam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riveline measurements are entered into the Allison Installation Design Calculations software program for analy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rivelin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3559320" y="1230480"/>
            <a:ext cx="5548320" cy="4309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swfButton.png"/>
          <p:cNvPicPr/>
          <p:nvPr/>
        </p:nvPicPr>
        <p:blipFill>
          <a:blip r:embed="rId3"/>
          <a:stretch/>
        </p:blipFill>
        <p:spPr>
          <a:xfrm>
            <a:off x="187812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swfButton.png"/>
          <p:cNvPicPr/>
          <p:nvPr/>
        </p:nvPicPr>
        <p:blipFill>
          <a:blip r:embed="rId4"/>
          <a:stretch/>
        </p:blipFill>
        <p:spPr>
          <a:xfrm>
            <a:off x="31510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swfButton.png"/>
          <p:cNvPicPr/>
          <p:nvPr/>
        </p:nvPicPr>
        <p:blipFill>
          <a:blip r:embed="rId5"/>
          <a:stretch/>
        </p:blipFill>
        <p:spPr>
          <a:xfrm>
            <a:off x="446256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swfButton.png"/>
          <p:cNvPicPr/>
          <p:nvPr/>
        </p:nvPicPr>
        <p:blipFill>
          <a:blip r:embed="rId6"/>
          <a:stretch/>
        </p:blipFill>
        <p:spPr>
          <a:xfrm>
            <a:off x="578016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5303520" y="14256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4816440" y="2090880"/>
            <a:ext cx="158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rizontal S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6270840" y="3711600"/>
            <a:ext cx="236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rtical Slope and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4113360" y="457524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Installation Design Calculations Softwar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nter measurements and readings in the Allison Installation Design Calculations Softwa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 software and support are available on the Allison Extran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ree key results must be within limit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rsional Accele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rive U-Joint Inertial Accele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ast U-Joint Inertial Accele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 U-joint angles at each end of the driveline should be equal or nearly equ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rivelin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4484520" y="1760400"/>
            <a:ext cx="4562640" cy="3838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swfButton.png"/>
          <p:cNvPicPr/>
          <p:nvPr/>
        </p:nvPicPr>
        <p:blipFill>
          <a:blip r:embed="rId2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swfButton.png"/>
          <p:cNvPicPr/>
          <p:nvPr/>
        </p:nvPicPr>
        <p:blipFill>
          <a:blip r:embed="rId3"/>
          <a:stretch/>
        </p:blipFill>
        <p:spPr>
          <a:xfrm>
            <a:off x="187812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swfButton.png"/>
          <p:cNvPicPr/>
          <p:nvPr/>
        </p:nvPicPr>
        <p:blipFill>
          <a:blip r:embed="rId4"/>
          <a:stretch/>
        </p:blipFill>
        <p:spPr>
          <a:xfrm>
            <a:off x="3151080" y="617220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Driveline Phasing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373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kes should typically be installed parallel to each oth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me vehicles are designed with yokes out of phas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rify driveline design with OEM prior to changing phas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hasing can be changed at the slip joi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rivelin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4376880" y="1517760"/>
            <a:ext cx="4538520" cy="4163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8" name="TextBox 10"/>
          <p:cNvSpPr/>
          <p:nvPr/>
        </p:nvSpPr>
        <p:spPr>
          <a:xfrm>
            <a:off x="6048360" y="5824440"/>
            <a:ext cx="128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ypical slip joi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5"/>
          <p:cNvSpPr/>
          <p:nvPr/>
        </p:nvSpPr>
        <p:spPr>
          <a:xfrm flipH="1">
            <a:off x="6248160" y="4778280"/>
            <a:ext cx="398520" cy="1055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swfButton.png"/>
          <p:cNvPicPr/>
          <p:nvPr/>
        </p:nvPicPr>
        <p:blipFill>
          <a:blip r:embed="rId2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swfButton.png"/>
          <p:cNvPicPr/>
          <p:nvPr/>
        </p:nvPicPr>
        <p:blipFill>
          <a:blip r:embed="rId3"/>
          <a:stretch/>
        </p:blipFill>
        <p:spPr>
          <a:xfrm>
            <a:off x="187812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swfButton.png"/>
          <p:cNvPicPr/>
          <p:nvPr/>
        </p:nvPicPr>
        <p:blipFill>
          <a:blip r:embed="rId4"/>
          <a:stretch/>
        </p:blipFill>
        <p:spPr>
          <a:xfrm>
            <a:off x="3151080" y="617220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Axle Vertical Slop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ith the driveshaft removed, place an inclinometer against the ax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cord the reading when the inclinometer stabiliz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rivelin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211480" y="3168720"/>
            <a:ext cx="6692760" cy="2950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7" name="Picture 13" descr="swfButton.png"/>
          <p:cNvPicPr/>
          <p:nvPr/>
        </p:nvPicPr>
        <p:blipFill>
          <a:blip r:embed="rId2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Transmission Vertical Slop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lace an inclinometer on the bottom of the transmis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 a smooth, flat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me transmission oil pans are not flat or parallel to the ground (including Allison 1000 &amp; 2000 Product Families transmissions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n these models, place the inclinometer on the main housing where the oil pan mounts or place the inclinometer on the machined face of the output flange or yok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cord the reading when the inclinometer stabiliz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rivelin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4827600" y="1514520"/>
            <a:ext cx="3973680" cy="382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Axle &amp; Transmission Horizontal Slop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ypically applies to V-drive transmissions which are not parallel to the frame rai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most applications a value of “0” is recorded for both measurements to indicate that the transmission and axle are parallel to the frame rai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rivelin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495680" y="2290680"/>
            <a:ext cx="4200480" cy="2667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Front and Rear Propshaft Slop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lace an inclinometer on the front and rear propshaf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 a smooth, flat surfac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cord each reading when the inclinometer stabiliz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heck each propshaft when the vehicle uses a multiple-piece drivel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rivelin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4968720" y="1790640"/>
            <a:ext cx="3581640" cy="3505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Propshaft Length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easure between the centers of each U-joi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cord each measuremen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easure each propshaft when the vehicle uses a multiple-piece drivel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rivelin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2179800" y="3917880"/>
            <a:ext cx="6221160" cy="210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U-Joint Offset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600200"/>
            <a:ext cx="33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easure each propshaft’s position between the vehicle’s frame rai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e a plumb bob to the frame rail and use it as a reference poi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easure from plumb bob string to the center of each U-joi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cord each measure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rivelin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3801960" y="2111400"/>
            <a:ext cx="5135760" cy="2395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Maximum Driveline Speed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ximum driveline speed is maximum engine rpm divided by the highest transmission gear rat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ference the engine data tag or engine manufacturer for max engine spe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3276720" y="103320"/>
            <a:ext cx="5638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rivelin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swfButton.png"/>
          <p:cNvPicPr/>
          <p:nvPr/>
        </p:nvPicPr>
        <p:blipFill>
          <a:blip r:embed="rId2"/>
          <a:stretch/>
        </p:blipFill>
        <p:spPr>
          <a:xfrm>
            <a:off x="187812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3"/>
          <a:stretch/>
        </p:blipFill>
        <p:spPr>
          <a:xfrm>
            <a:off x="2403360" y="3240000"/>
            <a:ext cx="6693120" cy="2938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4-02T17:42:55Z</dcterms:modified>
  <cp:revision>347</cp:revision>
  <dc:subject/>
  <dc:title>Introduction</dc:title>
</cp:coreProperties>
</file>