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582F-5250-437F-98A8-9C7985062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2849-079B-415D-95D6-FD89B3BA6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C5B-EB0B-4380-9057-259B5A50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D11B-AC87-4EFF-B4C9-CBDB92F9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8F2-4CED-40D9-8E2A-60ACEAFB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564-8378-49CA-AE32-0066ECDF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717-603F-4AAF-86F1-A6C062C2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F18-F94C-47E3-A18E-F1B6241E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AD2-4A42-4CC7-888B-9E2A454C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218D-4A19-4117-BD66-18A75FAA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0AE4-8702-4616-927F-FF71BB35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B87-0A4B-4672-A75F-4D3187E6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01E-B506-4B9D-8404-8DEDD225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1E7-53E9-4271-824B-5B28A751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B0E4-C700-4369-8A6B-2214B2542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203D-DC49-4062-8744-143B85A42040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849400" y="65160"/>
            <a:ext cx="6045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ortant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rcRect l="-1930" t="0" r="1937" b="0"/>
          <a:stretch/>
        </p:blipFill>
        <p:spPr>
          <a:xfrm>
            <a:off x="274680" y="930240"/>
            <a:ext cx="8024760" cy="5473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2-15T17:23:22Z</dcterms:modified>
  <cp:revision>303</cp:revision>
  <dc:subject/>
  <dc:title>Introduction</dc:title>
</cp:coreProperties>
</file>