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77A8-A99E-49F3-8937-CED681A88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44F3-D94A-4845-9C37-848AAD207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0CA4-D222-4B97-B801-A68175EA3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27C6-18D0-4357-B3EA-5AD44CAD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F77C-C6C6-42A8-BFB3-88FCB9D07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BDD7-9836-4E30-8528-5B494DA92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65E9-6167-4425-BD06-953C8B156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D824-F31E-4C23-8E35-0AE32F86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FA86-F950-4D91-9634-8B2F0E2E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B561-B31F-43AA-8E50-0B37058C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8774-72D8-4E83-8226-9CAAE4A8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2256-EB04-4DE3-89CB-326CA55F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89CD-5D9A-4F82-BC1E-8526D3D0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C3A0-A77C-432B-883E-CF569D61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9ECD-D83D-4F8E-A429-660E068671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C772-46E6-4CE9-854A-B474EE8040AA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2849400" y="65160"/>
            <a:ext cx="6045480" cy="581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mportant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rcRect l="0" t="1645" r="0" b="-1741"/>
          <a:stretch/>
        </p:blipFill>
        <p:spPr>
          <a:xfrm>
            <a:off x="471600" y="1036800"/>
            <a:ext cx="7877160" cy="5398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6:05:24Z</dcterms:created>
  <dc:creator>Ron</dc:creator>
  <dc:description/>
  <dc:language>en-US</dc:language>
  <cp:lastModifiedBy>Scott Scull</cp:lastModifiedBy>
  <dcterms:modified xsi:type="dcterms:W3CDTF">2013-02-15T17:24:38Z</dcterms:modified>
  <cp:revision>305</cp:revision>
  <dc:subject/>
  <dc:title>Introduction</dc:title>
</cp:coreProperties>
</file>