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A6AB-A23B-497F-838D-705084633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80F-5749-4785-A6D6-98D52A2F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2B4-F323-4764-84D2-A547C5A1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0F1-1DAB-4EB3-8C8E-FCC95A13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8B5-FF7F-4AD7-A727-8E76EC79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C43-05DE-41B9-841B-3541053F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9DA-1F70-40D2-AF17-20D7198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050-A3E9-4F72-98F6-B0CEA56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9B8-C2C3-4CF2-9317-7423DBB0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8AB-CBBA-4EF2-B156-7BCF164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78B-A61B-438F-8DD9-F6E3D2EE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459-1503-4E85-8DC2-85451AC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771-332C-4765-9482-533D676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448-034F-461F-B42E-CE2FD10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33D-D071-40FD-93E5-4AA824C19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61B4-8BFE-4246-8122-38C14AEC931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-157" r="0" b="-157"/>
          <a:stretch/>
        </p:blipFill>
        <p:spPr>
          <a:xfrm>
            <a:off x="519120" y="1047600"/>
            <a:ext cx="7877160" cy="539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5:11Z</dcterms:modified>
  <cp:revision>306</cp:revision>
  <dc:subject/>
  <dc:title>Introduction</dc:title>
</cp:coreProperties>
</file>