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0C01-15C4-424F-BD47-3486594F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7AD3-B977-431B-B6DF-EA68C562F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147-328A-4E89-BB5A-20BFC146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6D3-D273-49A7-9A91-1B9EDA0E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31C-6645-499D-8616-4ADF4946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05C-DBE6-4715-972E-1CB94151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BFF-9D23-4900-A2C9-F6818BD0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32B-072A-4373-9816-C8FBAF8C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BBF-57B2-404A-B8F0-86EF68D9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F4C-DB30-4118-9F7E-FDC7E748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1BF-D3FB-411F-90D1-E958DAD1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CA4-A05A-4C26-81B0-28079C8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C01-46F6-4BE2-AC99-F10FAED7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ACA-579B-417E-9126-02E6BF3B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3B3F-CEAE-4F65-9616-2B4E1610F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D176-AF2A-4FB4-A66E-464FD3E6635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87440" y="1039680"/>
            <a:ext cx="7904160" cy="537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7:50Z</dcterms:modified>
  <cp:revision>313</cp:revision>
  <dc:subject/>
  <dc:title>Introduction</dc:title>
</cp:coreProperties>
</file>