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71CB-502E-40FE-94C4-7860565AB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42A-8114-4F70-AFF5-A5543F6F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696-A71E-4C71-9DC9-B5364809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4A7-157E-41A8-BCE9-1C1C0ACA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F09-E2C3-41A4-A398-900DB7F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73C-4878-47DE-97F7-AC0533D6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0A6-384B-4BFA-BD7F-96C17C52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85A-2171-4380-A537-77ABDBDF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F4B-D5EE-45A0-8FBB-11E17ABB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12D-0384-4317-8F5A-661BCC08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65B-8396-4D42-84A2-A8E9955F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30B-9819-499D-999A-679886F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A51-CA75-4562-9B73-F302F8E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F07-B8E3-4CE7-A033-6496775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BB69-4A96-429F-B625-A7B75AC9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D0C9-D4C6-4CC0-BBE8-06583DE8A30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19120" y="1057320"/>
            <a:ext cx="7877160" cy="537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6:12Z</dcterms:modified>
  <cp:revision>309</cp:revision>
  <dc:subject/>
  <dc:title>Introduction</dc:title>
</cp:coreProperties>
</file>