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C0ED1-05DE-4A2A-88C2-BB4D145618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E8416-DE6E-4725-AFBF-22F98D5EEF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B3607-BD64-4FE0-90F9-1B7A35229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60F8A-44A7-4F7D-93F4-160C03BB6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EF594-DB42-46C3-AE24-69E5D6896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7D247-2F15-4EE7-A38D-98ADD7FF4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477DD-03DB-4748-9B58-06B6B7F4B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621DA-57EB-4102-A0A2-F8FB3192A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EACB4-051C-4796-B46C-2673E94BB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2FDC5-9EBF-4290-B8B4-D53AC2812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76031-6570-417E-BB23-795B860B7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F8CC9-7FDF-46AE-BCA9-5DF1F7466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99333-247C-4BA8-A493-19B901EF0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5B113-4280-401C-B8A8-4E1860AC8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D2F12-BE69-4B72-9AAF-A28E03DEFA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7942320" y="6561000"/>
            <a:ext cx="119700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E4E4C-1846-4CEA-B089-BC45DEC92EEB}" type="slidenum">
              <a:rPr b="0" lang="en-US" sz="1200" spc="-1" strike="noStrike">
                <a:solidFill>
                  <a:srgbClr val="404040"/>
                </a:solidFill>
                <a:latin typeface="Arial Black"/>
              </a:rPr>
              <a:t>&lt;number&gt;</a:t>
            </a:fld>
            <a:r>
              <a:rPr b="0" lang="en-US" sz="1200" spc="-1" strike="noStrike">
                <a:solidFill>
                  <a:srgbClr val="404040"/>
                </a:solidFill>
                <a:latin typeface="Arial Black"/>
              </a:rPr>
              <a:t> of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Box 3"/>
          <p:cNvSpPr/>
          <p:nvPr/>
        </p:nvSpPr>
        <p:spPr>
          <a:xfrm>
            <a:off x="2849400" y="65160"/>
            <a:ext cx="6045480" cy="5814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Important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" descr=""/>
          <p:cNvPicPr/>
          <p:nvPr/>
        </p:nvPicPr>
        <p:blipFill>
          <a:blip r:embed="rId1"/>
          <a:stretch/>
        </p:blipFill>
        <p:spPr>
          <a:xfrm>
            <a:off x="519120" y="1082520"/>
            <a:ext cx="7877160" cy="53247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3T16:05:24Z</dcterms:created>
  <dc:creator>Ron</dc:creator>
  <dc:description/>
  <dc:language>en-US</dc:language>
  <cp:lastModifiedBy>Scott Scull</cp:lastModifiedBy>
  <dcterms:modified xsi:type="dcterms:W3CDTF">2013-02-15T17:25:43Z</dcterms:modified>
  <cp:revision>307</cp:revision>
  <dc:subject/>
  <dc:title>Introduction</dc:title>
</cp:coreProperties>
</file>