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553-B039-4183-BFE6-70EFDFDB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92CC-8E27-4661-ACEF-4DBA9154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4B4-7817-4F2C-B494-3727FA89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A7B-7ABF-41F0-B0BE-CE95D241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AD6-9528-4E72-A04D-9E64EB00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68B-2E1F-42F6-8D6E-27BCCC40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D7F-D152-4EA8-BFCA-4153B9F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BE9-CDE1-489B-86E8-13D3D99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B91-7336-496C-A658-3632A0E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6FC-F33A-4268-A044-A85AF27B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1DF-595D-492D-8804-5282B9A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B48-C68E-43C8-BBF8-8286D47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6F5-3CAC-4C27-AE01-83717EC7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0D6-F4E4-4FAA-94E0-CEB494C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84E2-5A74-4AB3-9FAA-0DA2D748A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3473-D430-4876-AA67-CF4F34E61B8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09760" y="1039680"/>
            <a:ext cx="78595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8:13Z</dcterms:modified>
  <cp:revision>314</cp:revision>
  <dc:subject/>
  <dc:title>Introduction</dc:title>
</cp:coreProperties>
</file>