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345D-CA91-44EB-9778-3B732114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7A91-F633-4D3C-B56F-13FB57A5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E5E-CE56-40B0-8C6E-E7ED2BBD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D74-9E94-420B-8BA1-41E8723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AB9-9AAE-4CA6-BA0C-005D3353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37F-6E04-40E5-B0D0-E67A3B38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725-606F-4CF5-B67D-90CEB3EE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C93-06AA-4668-A297-EC1AADC6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AA1-1079-4080-90BB-E6E2ED0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CA3-1A77-4F90-B0E5-4A953849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D77-18D4-4965-8487-B12A767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BA0-1261-41D3-A2E7-3E992C9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67C-90F2-4423-867F-D9035988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AB0-5275-4181-9645-60BA8A9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CE77-49C8-4602-9B67-83AB2B630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6B3-BB79-412B-A9B4-08E3B51B1A1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95360" y="1039680"/>
            <a:ext cx="788832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7:29Z</dcterms:modified>
  <cp:revision>312</cp:revision>
  <dc:subject/>
  <dc:title>Introduction</dc:title>
</cp:coreProperties>
</file>