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E298-44A8-4DCA-A160-2AB40E05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54FD-FCF4-45F1-B9FB-C2DC46EF2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4E-9A7E-4E2A-9580-2A30F09F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66D-3095-4E7A-B800-F513F25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E15-955D-4824-80D2-8FD400D8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468-A8E0-47C9-BCA2-CBF59D78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030-4926-498F-9B01-1EF61022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1F9-CD6D-4189-84EB-0F8CECE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940-B415-46E8-8100-0759924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C2A-7B67-4AF9-88E2-737599C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E9F-9467-4289-A264-8BC7786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D63-5124-4FB2-93DB-64AE0BB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B27-B1E2-4DFD-BC8B-5C2122A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4D6-6732-4472-84E8-853624E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BC61-3061-4A89-A7B6-48B531D5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53D1-6ABE-455C-86A1-97A21E7F7C73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-29" t="0" r="1209" b="0"/>
          <a:stretch/>
        </p:blipFill>
        <p:spPr>
          <a:xfrm>
            <a:off x="571680" y="1058760"/>
            <a:ext cx="7680240" cy="519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4:05Z</dcterms:modified>
  <cp:revision>304</cp:revision>
  <dc:subject/>
  <dc:title>Introduction</dc:title>
</cp:coreProperties>
</file>