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12EC-0075-4F56-A948-405E77166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19AC-B78E-4E57-A64D-EF1229297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D704-45D5-4AEF-90D4-99EA6214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64E9-4FAA-4510-B174-872FD25F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4611-5CAE-4AB4-921A-439A3978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A686-4256-4E9B-B34F-FFAB0F04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E19E-EE17-4288-AB98-774A8239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E23E-F0B3-417E-8A26-1BDAA754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B8D2-67D0-41DF-BE5D-EC0564A1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9865-C0E0-40A3-AB46-B1E3233B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DE99-B59F-46EE-BB65-6248BF2C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7A37-C12B-46AE-B76C-72CCD628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606B-FBF5-4D01-8CD2-B08BBAC8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1F11-8012-45D6-8B87-5BA0D5EE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670E-3647-488F-9C62-077411335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92D9-1222-47B2-93FF-BFF0C4E1B724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2849400" y="65160"/>
            <a:ext cx="60454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mportant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482760" y="1039680"/>
            <a:ext cx="7913520" cy="5378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Scott Scull</cp:lastModifiedBy>
  <dcterms:modified xsi:type="dcterms:W3CDTF">2013-02-15T17:27:02Z</dcterms:modified>
  <cp:revision>311</cp:revision>
  <dc:subject/>
  <dc:title>Introduction</dc:title>
</cp:coreProperties>
</file>