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E8DF-289B-427B-86D6-463FB50A0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B81C-9352-46C3-989F-16C31361E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321-77B7-4E41-B333-C3C39B12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8E5-4B01-4B10-9C98-EDAEAC21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77E9-415B-475E-B894-9A2AA4FF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1C67-7A54-4A06-B66C-F304AA87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93B-EAF5-4075-9442-9B1C7C1E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E59F-0572-498A-B6BE-D17B2048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35D7-556B-45AD-8AAF-42662907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6977-C584-46DA-AE04-6E4F4E08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058C-F77E-40CE-91F4-55E488B2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47D2-26CC-4F8C-AB99-712BE240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5C56-C962-4FCD-AC77-CFCDABC5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8C30-E9A1-4ADA-8582-C7C73676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0D9F-1B87-41D8-BF8A-F168E510C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095B-C665-4796-B858-011443D68765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849400" y="65160"/>
            <a:ext cx="60454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mportant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rcRect l="0" t="0" r="2494" b="0"/>
          <a:stretch/>
        </p:blipFill>
        <p:spPr>
          <a:xfrm>
            <a:off x="495360" y="1049400"/>
            <a:ext cx="7680240" cy="5391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2-15T17:26:36Z</dcterms:modified>
  <cp:revision>310</cp:revision>
  <dc:subject/>
  <dc:title>Introduction</dc:title>
</cp:coreProperties>
</file>